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0341-D5C0-4B29-B2F2-620F4A1B9C95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DCE4-7259-4994-B48B-71828618AE72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CCD6-9282-4699-ADF2-030267222AB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oviding access to your dat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99568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R. Downs, Ph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cioeconomic Data and Applications Center (SEDA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enter for International Earth Science Information Network (CIESI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umbia Univers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92760" y="4952880"/>
            <a:ext cx="591840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cember 6, 201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154400" y="7658280"/>
            <a:ext cx="2500560" cy="1752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4"/>
          <a:stretch/>
        </p:blipFill>
        <p:spPr>
          <a:xfrm>
            <a:off x="6692760" y="7924680"/>
            <a:ext cx="1125720" cy="1204920"/>
          </a:xfrm>
          <a:prstGeom prst="rect">
            <a:avLst/>
          </a:prstGeom>
          <a:ln w="0">
            <a:noFill/>
          </a:ln>
        </p:spPr>
      </p:pic>
      <p:sp>
        <p:nvSpPr>
          <p:cNvPr id="746" name="TextBox 1"/>
          <p:cNvSpPr/>
          <p:nvPr/>
        </p:nvSpPr>
        <p:spPr>
          <a:xfrm>
            <a:off x="4122360" y="9321840"/>
            <a:ext cx="73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Copyright 2011. The Trustees of Columbia University in the City of New York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5"/>
          <a:stretch/>
        </p:blipFill>
        <p:spPr>
          <a:xfrm>
            <a:off x="11773080" y="9298080"/>
            <a:ext cx="838080" cy="2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racking data us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cientific data can be used for various purposes in addition to those initially planned by the investigators who originally collected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ew products, such as maps, can be created and distribut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may be integrated with other data to create new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udies may be published about the use of the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olicies, plans, and reports may result from using the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cking the use of scientific data identifies how the data have been used, can reveal benefits and impacts of their use, and can justify previous and future data effor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track data usage?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ata producers, distributors, stewards, and sponsors need to know how the data have been used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ducers can determine whether the data are useful to other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ors will learn which communities the data are serving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ewards can document the data with descriptions of prior us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ponsors can justify the costs of the effort and demonstrate the potential value of sponsoring future effort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wareness of how data have been used may identify opportunities for new data collection and distribution efforts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racking data usage can justify the effort of collecting data and of developing and distributing data products or services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vidence of beneficial data use demonstrates accomplishments for those who contributed to the effort.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escribing tracked us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may be describe in terms of  users, such as discipline (oceanography, geology, etc.) or level of expertise. (graduate students, experienced climate scientists, etc.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s of the data can be categorized by purposes, such as scientific research, education, policy-making, and planning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dentifying uses of similar data should inform initial data development and dissemination plan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valuation of past and current uses should inform enhancements for data products and related services and can be used to identify the impacts of the resourc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for tracking data us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rics for access and support (describe in privacy policy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eb metrics (initial and repeat visitors’ page visits, downloads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act information provided during requests for assista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gistr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quest contact information from recipients of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r surveys (with approval of ethics board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dminister questionnaires to visitors of data webpag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itations – provide a recommended citation for data and subscribe to alerts from publish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ublished scientific literature (articles, book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gray literature (presentations, reports, blog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opular media (magazines, newspapers, radio, television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ensitive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ome data are sensitive and may require special handling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y be designated as sensitive for various reason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designation of data as sensitive may be permanent or temporary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nsitive data must be identified and properly handled to ensure that any sensitive information is not compromis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managers must ensure that sensitive data are adequately protected so that they are not accessed or modified by unauthorized persons and are not lost or misus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users must ensure that their handling or use does not violate any restrictions that have been placed on sensitive data that they use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is sensitive data a concern?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y be designated as sensitive to protect individuals and other life forms, property, programs, or other interes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aws, regulations, or policies may designate data as sensitive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icenses and agreements may specify requirements to protect data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curity: data about locations or property that cannot be disclos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ivacy and civil rights: personal or information identifying individual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nvironmental information about locations or inhabitants that need to be protect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prietary information about new developments or technologies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iolating restrictions that have been placed on sensitive data is unethical and could result in civil or criminal penalties, such as fines, loss of privileges, or incarceration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ow are sensitive data handled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253800" y="2361960"/>
            <a:ext cx="1242036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and use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nsitive data must be protected to limit who may have access or how they are used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Authorization for access may be limited to specific individuals or specific purposes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nsitive data may require additional security, monitoring, and loss prevention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afeguards may need to limit modifications or derivations of sensitive data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Restrictions may limit whether sensitive data may be used in products or services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ssemination and cop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trictions may limit who is authorized to distribute the data, how the data may be distributed, and whether copies of the data may be created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ion of sensitive data may be limited to a specific location or servic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ion may be limited to a specific time period, which may be in the futur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ion of data and derived products or associated services may be limited.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for handling sensitive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dentify data that must be designated as sensitiv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signate data that are sensitive and label as sensitiv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tore sensitive data in secure faciliti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nsport sensitive data using secure mean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clude with sensitive data, a description of the conditions for handling sensitive data along with acceptable us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stablish infrastructure and procedures for storing, managing, disseminating, accessing, copying, transmitting, and using sensitiv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in staff on how to protect sensitive data from unauthorized us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of providing access to sensitive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imit access to authorized individuals or rol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able access within a facility only accessible by authorized person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imit access to authorized individuals with password-protection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stablish a data enclave without capabilities to copy or transmit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rovide options for authorizing access to sensitive dat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evidence of approval or expertis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users to sign a confidentiality, non-disclosure, or data use agreement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approval of data protection plan from potential user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an exception or waiver of restrictions under certain condition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clearance for specific individuals to access sensitive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declassification of sensitive data from relevant authority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Modify the data to protect sensitive portion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hange aspects of data that are sensitive (recode, generalize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move or obscure the portions of data that are sensitive (redact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iding access to sensitive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82400" y="2324160"/>
            <a:ext cx="1211580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view or establish organizational policies on sensitive data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Identify conditions under which sensitive data may be disseminated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elect a dissemination method that does not violate restrictions. 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reate a data dissemination plan for sensitive data.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quest approval from authorities for data dissemination pla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isseminate data in accordance with data dissemination pla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Monitor data dissemination to ensure compliance with all restrictions on sensitive data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ease dissemination if restrictions on sensitive data are violated and immediately report any violations to authorities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iding access to your data - 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ing your audien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igh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Mechanism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cking Data Usa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andling Sensitiv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58720" y="228564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pache Software Foundation: Licenses http://www.apache.org/licenses/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SD License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ttp://www.freebsd.org/copyright/license.html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hen, R. S. and Downs, R. R. 2010. Evaluating the Use and Impact of Scientific Data. Assessing The Usage and Value of Scholarly and Scientific Output: An Overview of Traditional and Emerging Metrics. Available online at http://info.nfais.org/info/ChenDownsNov10.pdf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reative Commons http://creativecommons.org/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t Practices for Sharing Sensitive Environmental Geospatial Data http://www.geoconnections.org/publications/Key_documents/Sensitive_Env_Geo_Data_Guide_EN_v1.pdf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omputer Security Act of 1987. Available at http://csrc.nist.gov/groups/SMA/ispab/documents/csa_87.tx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onfidentiality Issues in Geospatial Data Applications. Available at http://sedac.ciesin.columbia.edu/confidentiality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ealing With Sensitive Data. Available at http://www.dcc.ac.uk/events/research-data-management-forum/rdmf4-dealing-sensitive-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owns, R. R., Schumacher, J., Chen, R. S., &amp; Lenhardt, W. C. 2008. Assessing the Scientific Benefits of Interdisciplinary Use of Social Science Data through Citation Analysis. International Association for Social Science Information Services &amp; Technology (IASSIST) 2008 Conference. Palo Alto, CA. May 28, 2008. https://www.stanford.edu/group/ADS/cgi-bin/drupal/system/files/DataCitationIASSIST20080528.ppt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CPSR – Restricted Data. Available at http://www.icpsr.umich.edu/icpsrweb/ICPSR/access/restricted/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uidelines for Providing Appropriate Access to Geospatial Data in Response to Security Concerns. Available at http://www.fgdc.gov/policyandplanning/Access%20Guidelines.pdf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nu Public Licenses (GPL &amp; LGPL)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gnu.org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pen Data Foundation. Available at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opendatafoundation.org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ited States Copyright Office. Available at 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copyright.gov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determine your audience?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ing the audience for data products or services influences the development and management of the resources to foster discovery, accessibility, understandability, and usability by the audienc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ducers, distributors, stewards, and sponsors of data need to know what audiences are being serv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ducers can develop resource for use by the audienc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ors can package, promote, and disseminate resources to the audienc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ewards can manage the data to meet current and prospective audience needs and assess its value to the audienc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ponsors can support data collection, development, and distribution for the audienc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etermine audience throughout data lifecycl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udience may be defined by user demographics, such as discipline (oceanography, geology, etc.) or level of expertise (graduate students, experienced climate scientists, etc.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udience may be defined by the application and uses of data products and services, such as scientific research, education, policy-making, and planning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ation of the intended audience should inform initial data development and dissemination plan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valuation of past and current audiences should inform enhancements for data products and related services and can be used to identify the impacts of the resourc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for determining current audienc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rics for access and support (describe in privacy policy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eb metrics (initial and repeat visitors’ page visits, downloads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act information provided during requests for assista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gistr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quest contact information from recipients of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r surveys (with approval of ethics board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dminister questionnaires to visitors of data webpag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itations – provide a recommended citation fo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ublished scientific literature (articles, book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gray literature (presentations, reports, blog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opular media (magazines, newspapers, radio, television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igh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tellectual property rights for the use of data are decided by the producer (or owner, if different)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icenses or permissions may allow others to use th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description of the rights for the use of data should be packaged with the data so that potential users can determine what they are allowed to do with th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pplying non-restrictive licenses and open data practices can allow more uses of th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ights also should be described for any documents, software code, or scripts that are needed to use th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ights laws are not the same in every country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 US, copyright is automatically applied to original works, not to facts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of rights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ors, stewards, and end-users of data need to receive rights for using data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ors need rights to modify and disseminate the data and to allow others to distribute the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tewards need to acquire rights to maintain, modify, and store the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d-users need to acquire rights to use the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cipients of rights need to know what rights they have been granted for using the data so that they may exercise their rights and are aware of any restriction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Simple language should be used to communicate rights assigned to the user.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If clear descriptions of the rights are packaged with the data, then users can easily learn about their rights and requests for rights will be limited.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Machine-readable rights descriptions can be harvested for distribution in catalogs.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hoices for assigning rights: examp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71680" y="2324160"/>
            <a:ext cx="1140912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ublic Domain – not copyrighted, permission is not requir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Works created by some government agencies may be in the public domain.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Works in the public domain can be marked to identify them.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Rights can be waived by applying a Creative Commons 0 (CC0) license.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reativeCommons.org licenses for copyright holder to allow use, dissemination, derivation, integr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 License: requires attribution (cite the source).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ND: requires attribution, no derivatives allowed.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NC License: requires attribution, no commercial use allowed.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SA License: requires attribution, share alike using same license.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pache.org license for copyright holder of scripts and computer cod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Applied to code to allow “worldwide, non-exclusive, no-charge, royalty-free, irrevocable copyright license to reproduce, prepare Derivative Works of, publicly display, publicly perform, sublicense, and distribute” (Apache License 2.0, 2004).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62" name="Picture 4" descr=""/>
          <p:cNvPicPr/>
          <p:nvPr/>
        </p:nvPicPr>
        <p:blipFill>
          <a:blip r:embed="rId1"/>
          <a:stretch/>
        </p:blipFill>
        <p:spPr>
          <a:xfrm>
            <a:off x="11111040" y="53182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5" descr=""/>
          <p:cNvPicPr/>
          <p:nvPr/>
        </p:nvPicPr>
        <p:blipFill>
          <a:blip r:embed="rId2"/>
          <a:stretch/>
        </p:blipFill>
        <p:spPr>
          <a:xfrm>
            <a:off x="11120400" y="5759280"/>
            <a:ext cx="838080" cy="295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"/>
          <p:cNvPicPr/>
          <p:nvPr/>
        </p:nvPicPr>
        <p:blipFill>
          <a:blip r:embed="rId3"/>
          <a:stretch/>
        </p:blipFill>
        <p:spPr>
          <a:xfrm>
            <a:off x="11142720" y="62056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7" descr=""/>
          <p:cNvPicPr/>
          <p:nvPr/>
        </p:nvPicPr>
        <p:blipFill>
          <a:blip r:embed="rId4"/>
          <a:stretch/>
        </p:blipFill>
        <p:spPr>
          <a:xfrm>
            <a:off x="11120400" y="662940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8" descr=""/>
          <p:cNvPicPr/>
          <p:nvPr/>
        </p:nvPicPr>
        <p:blipFill>
          <a:blip r:embed="rId5"/>
          <a:stretch/>
        </p:blipFill>
        <p:spPr>
          <a:xfrm>
            <a:off x="10788480" y="8534520"/>
            <a:ext cx="1482840" cy="4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ccess Mechanism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provid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ingle or multiple distributors (version control, commitment, cited source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ducer provides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Producer’s website, project website, blog, Email, portable medi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stributor provides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or’s website: organized by collections, projects, or producer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e access to packaged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ata package includes documentation (any information users need to know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op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Free or fee, discovery, user capabilities, user services (help), registration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ong-term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rganizational commitment, infrastructure, continuing management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2:27:21Z</dcterms:created>
  <dc:creator>Robert R Downs</dc:creator>
  <dc:description/>
  <dc:language>en-US</dc:language>
  <cp:lastModifiedBy>Carol Meyer</cp:lastModifiedBy>
  <dcterms:modified xsi:type="dcterms:W3CDTF">2011-12-06T02:42:02Z</dcterms:modified>
  <cp:revision>77</cp:revision>
  <dc:subject/>
  <dc:title>ESIP Federation 101</dc:title>
</cp:coreProperties>
</file>